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439-3C06-400A-A88C-9C20D725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E4C-0D96-4D3A-94DF-EC4B51B5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65E-C435-44D2-8870-476A3994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16A-DE88-410D-A4A5-E1DBF28E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2D7-0F16-49B4-94C1-4639432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502-7FCC-4AC5-AA74-93332F2F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D1F-1C89-4D79-B465-9160E840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12A-ECD7-4B18-8CFA-CD44AC49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6A9-C74B-4919-909B-6B6B144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5DF-C4CE-4F04-9B5C-E3832ED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659-5D53-4341-BA5C-9504D55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2C5-C83D-4B9D-875F-4420EE3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D5B-3D23-491D-AEED-4C4187A61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24:34Z</dcterms:created>
  <dc:creator> </dc:creator>
  <dc:description/>
  <dc:language>en-US</dc:language>
  <cp:lastModifiedBy> </cp:lastModifiedBy>
  <dcterms:modified xsi:type="dcterms:W3CDTF">2008-11-24T19:24:41Z</dcterms:modified>
  <cp:revision>1</cp:revision>
  <dc:subject/>
  <dc:title>Slide 1</dc:title>
</cp:coreProperties>
</file>